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A48-A91A-4A2B-92E4-634F3472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412-796E-46DB-8279-69793FE4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650-41E0-4DE0-96BF-418CD665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AB5-BDAD-4BAE-8F41-46EF5631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D1B3-2A65-42E1-8B0E-3138B3C3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46C0-8D41-4632-B497-1F77AC74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8DA-1665-4DC9-8934-B44E449C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BF24-0246-4169-92AB-4113B24F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EB4E-F143-4DC7-8529-90B91D4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3995-C408-456D-BD27-6B58D18C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44E4-282D-4067-AC22-5666DE1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2A8-D8B3-4571-A1C2-099C3C49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58FD-6A7B-4902-BB14-4750307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DA2-BAC3-484F-B55A-3D57991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DBBD-C1B0-4155-80F2-EF67556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FAC6-6778-42A4-B10D-965C510F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A99-202F-442A-B567-120F06DB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396-5F69-4CD9-A56A-8905588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D73-BD38-45BC-BD27-0811C1B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62C-98D8-4C3F-BB7D-9FC8611A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650-E86E-4A29-9D73-3AADCCB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C0C-DA24-4682-99D6-6A914F1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B92-63B6-4841-9B7F-89D4BAA8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F0B-2058-463E-8906-997CE6B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92C-6DAD-4179-B20F-8E4D998BE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58C-FB79-4265-98FC-4414CC7DF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Persuasive Appeals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0481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Classic Modes of Persuas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l to Log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l to E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l to Et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00600" y="2581200"/>
            <a:ext cx="4343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odern Appe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ten manipulativ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Listed in increasingly manipulative order; however, any appeal can be perverted into manipulation of audienc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67080" y="3770280"/>
            <a:ext cx="4077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like Logic, connects argument through a logical chain          of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warming caused by these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contribution can be de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can be de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ru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ppeal to helping others even at our own expense (i.e. humanitarian a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3024000">
            <a:off x="6640920" y="978840"/>
            <a:ext cx="274320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 s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logical argument based on as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 war assumption: communism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lse prem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ot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t’s good for                      the country, s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imilar to common s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so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tempts universality, but it’s an analogy, s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 skep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has this happened to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ys so - to                                - Mom says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oer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029200" y="3105000"/>
            <a:ext cx="34671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f-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lightened self-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good for others is good for u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all work togeth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lfish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b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hip hop ly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895840" cy="2327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rot="21042600">
            <a:off x="0" y="1980720"/>
            <a:ext cx="18288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nd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ercion: appeals                              to fear or parano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ju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ee-jerk reaction to buzz words and stereo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stition and ignorant f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45120" y="380880"/>
            <a:ext cx="378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buses of Appe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viously false facts lead to false conclusions (WM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sinterpretation of fa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them seem different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what your              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 accomp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ical Falla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270480" y="3276720"/>
            <a:ext cx="2700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1:19:58Z</dcterms:created>
  <dc:creator>\]</dc:creator>
  <dc:description/>
  <dc:language>en-US</dc:language>
  <cp:lastModifiedBy>\]</cp:lastModifiedBy>
  <dcterms:modified xsi:type="dcterms:W3CDTF">2008-02-21T23:12:15Z</dcterms:modified>
  <cp:revision>7</cp:revision>
  <dc:subject/>
  <dc:title>Persuasive Appeals</dc:title>
</cp:coreProperties>
</file>